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61B-AF33-40B4-8FB1-8B910FE7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61C-2F44-4E0E-9997-04466F0E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814-2D3C-40A7-A6A3-67F1144A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595-8C80-4B51-9677-D65BBE10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347-0F4C-4335-951F-1FCDCFD6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4B2-B0D9-4C85-9418-026A6AD6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F9E-A3E5-4AD6-A733-3A3FD359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C21-C77B-4370-909A-CF68B7C1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B1E-5F59-4063-9160-B32FB52B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D95-62F5-468A-A5EA-7969309F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01A-54A9-4CBB-AD3E-E1C46C43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92F-900F-4059-8A13-65E0E811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C70A-F599-4D59-B2A9-212F19F93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Opportunistic Infections in HIV Pat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ugust 31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a of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248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diseases that also affect normal h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monary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uemococc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vical Dy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5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-35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05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cystis Carinii Pnue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sporid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Multifocal Leukencephalo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7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ften multiple diagnoses present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PCP, CMV, KS, Co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% of bacterial pneumonias also have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CP pneumonia complicated by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second etiology if patient not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most common opportunistic infections (OIs): Dx and 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mmune reconstitution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rimary OI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e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 -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 -T cells &lt;100 and +Toxo t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-  T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– INH x 9 months if PPD &gt;5mm or quantiferon-TB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eron not approved for use in immunocompr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7 HIV patients in New Orleans given both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% did not return for TST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ositive by quantif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ve by 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eron is more sensitive but without a gold standard for latent TB infection cannot say whether it is more or less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tudy showed similar positive test result rates but a better correlation with risk factors for quantiferon vs. TST suggesting quantiferon is a more specif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Given the high risk for progression to active disease in HIV-infected persons, any HIV-infected person with reactivity on any of the current LTBI diagnostic tests should be considered infected with </a:t>
            </a:r>
            <a:r>
              <a:rPr b="0" i="1" lang="en-US" sz="2800" spc="-1" strike="noStrike">
                <a:solidFill>
                  <a:srgbClr val="000000"/>
                </a:solidFill>
                <a:latin typeface="AGaramondPro-Italic"/>
              </a:rPr>
              <a:t>M. tuberculo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----CDC guidelines, 3/24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rength has similar efficacy with fewer adverse reactions (I.e. late onset rash, hepatotoxicity, f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-50% of AIDS pts. D/c Septra DS due to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Desensit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olized pentamadine 300mg q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vaquone 1500mg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rosolized pentamidine b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Desensiti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vaquone 15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thromax 600mg x 2 tabs qweek reduces infection rate 5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ems to reduce risk of 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Opportunistic Inf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yo male with poor adherence to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+ since at least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pisode thrush March,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: white patches on buccal m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ed with fluconazole, sx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t thrush Jul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: probably esophage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x resolve in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odynophagia January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itraconazol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weeks l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ynophagia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ush persists, resolved on re-exam Marc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, 2006-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rent episodes of thrush and esophageal candidiasis due to non-adherence to in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pisode improves when patient is ad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thrush despite stated ad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, 2007  T Cells 5 Weight 121# (baseline 198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current odynophagia despite adherence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ted for IV Capsofun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markedly improve in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al Cx: Candida Alb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ies: resistant to fluconazole, itraconazole and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7-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xtensive thru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on 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 -&gt;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8:  moves in with sisters after hospital stay, adherence improves mark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9: T cells 77, thrush much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9: T cells 239, thrush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ttage cheese pla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palate, buccal mucosa,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moved with a tongue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rythematous form without exu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72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y opening 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t than you would expect, unless T Cells&lt;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Fluconazole 200mg qweek for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ort Studies in pre-triple therapy 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Car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tomega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- second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oplasmi gon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lso has thrush (positive predictive value is 90%, but 18% of esophageal candidiasis presents without th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mpirically x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etter, scope to r/o other c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V, HSV, idopathic esophageal ulcers, lymph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prophylax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onazole 100-200mg qd until sx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resistant Can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ose fluconazole (400-800 m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ra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Capsofun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Amphoteri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Who gets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prophylaxis highly efficat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if 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 weeks of progressiv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sweats, weight loss, fatigue, nonproductive c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ternal dis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g exam usuall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: bilateral diffuse interstitial infiltrate in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H&gt;400 in 6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2&lt;75 in 6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e P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http://www.mevis.de/~hhj/Lunge/ima/InfPcPEmphCTThA53_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13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ed sputum x 3 in early AM (all on same day): 50-7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choscopy (+/-Bx): 80-9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R based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llect sputums or go directly to bro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gin before Dx confirmed without affecting diagnostic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isone 40mg BID x 5d. Then taper over total 2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15mgTMP/kg/d IV div. Q8h x 21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to po when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first dose prednisone 15-30 minutes before Sep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: Crypto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: street drug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: sepsis, pneumonia and massive hemopt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: metastatic prostate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: CVA, laryngeal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: PML (progressive multifocal leukencephal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: bacterial pneumonia, ETOH cirrhosis, w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HIV patient with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 Cell 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g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in typical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itary in 50-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only if CXR suspicious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eat empirically for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pneumoniae, H. Flu most common (encaps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nsider: Non-Hodgkin’s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l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as lower lobe disease, adenopathy, miliary or interstitial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ary in only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all abnormal CXR until TB rul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efinitive diagnosis whe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cidiomycosis, Cryptococcus, Asperg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V, KS, M.TB, M. Kansa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Treat PCP empir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hysicians make wrong clinical diagnosis in 20% of suspected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treated empirically have higher risk of death than patients who underwent bro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cidence of rash toward end of 21 d. Septr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nctive steroids may exacerbate other 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tiologies left un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re above 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CMV disease is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less, progressive visu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lateral blurry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escing white perivascular exu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hemorrh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hfire pattern or tomato and cheese 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Kansasii immune reconstitution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bacterium Avium Complex 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coccal Fungemia,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plasm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gancyclovir 900m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D x 21 days, then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penia ANC&lt;500 in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: nausea, vomiting, abdominal pain or 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 addition to systemic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 implanted dep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t 6 months if still not immune reconstit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night sw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culture usually positive if symptomatic but takes week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 to know sooner then do bone marrow B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putum culture usually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tool culture may be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hromycin 500mg BID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ambutol 15mg/kg/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fabutin 3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failure rate is high without immune re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ami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ylaxis simple: Septra and Zithro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TB in pneumonia with T Cells &lt;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reating PCP empir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I’s have declined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’s seen now mostly in 3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agnosed HIV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care or not adhering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eople living with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304920" y="1600200"/>
          <a:ext cx="8534160" cy="523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 or ice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5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HCMARTINEZ</cp:lastModifiedBy>
  <cp:lastPrinted>2003-02-13T16:33:18Z</cp:lastPrinted>
  <dcterms:modified xsi:type="dcterms:W3CDTF">2009-08-31T19:02:11Z</dcterms:modified>
  <cp:revision>20</cp:revision>
  <dc:subject/>
  <dc:title>Primer on Opportunistic Infections</dc:title>
</cp:coreProperties>
</file>